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181277"/>
        <c:axId val="40870892"/>
      </c:barChart>
      <c:catAx>
        <c:axId val="32181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70892"/>
        <c:crosses val="autoZero"/>
        <c:auto val="1"/>
        <c:lblAlgn val="ctr"/>
        <c:lblOffset val="100"/>
        <c:noMultiLvlLbl val="0"/>
      </c:catAx>
      <c:valAx>
        <c:axId val="40870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81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3E1-5837-4E07-8B6B-8D6D99B8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031-49F4-41E4-B2F0-D4841174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66C8-2BE8-416C-9223-EF023860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658D-34C1-48FC-938D-6C0D0FA7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BE06-A78C-4A67-86E3-B687E1A4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07D5-5338-42BF-A0F4-A0C046FD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69F-CCB9-4E85-9520-F3622FBF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D0D-A0CE-4CA7-9E74-AAF6CAB5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DAA5-9666-44B5-A1D9-A7012795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BC4-6D7B-4D61-AD41-37A7581F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2FD-C95A-4832-80A1-D8C63158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1040-E339-4380-BFFA-D4B687B1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ECAC9-253A-4CA3-82C6-F4DFB447F2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