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72456"/>
        <c:axId val="67467353"/>
      </c:barChart>
      <c:catAx>
        <c:axId val="95772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67353"/>
        <c:crosses val="autoZero"/>
        <c:auto val="1"/>
        <c:lblAlgn val="ctr"/>
        <c:lblOffset val="100"/>
        <c:noMultiLvlLbl val="0"/>
      </c:catAx>
      <c:valAx>
        <c:axId val="67467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72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912-661A-445D-B8FF-062A2295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9FB-1406-48A1-AE0E-6AD72B99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584-AC43-4743-B18F-8F1FF73F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960-E0ED-4B5E-8442-D7C4507E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157-7949-4A94-884C-73932BA2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362-68EE-4CC7-8768-4AAB0162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CF2-8DEC-43D9-9BD3-627E7BD1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80B-A6CA-438C-9CD0-E2134C6C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976-0304-430F-83B3-278FFCB8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127-843B-493F-AF7D-09D82229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5FC-9577-4B7B-8A3F-AF138E7E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1B8-56D6-469A-8246-3155F8D2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4E4F3-2A38-4CEA-965A-7C8B60876B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