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18007"/>
        <c:axId val="48206343"/>
      </c:barChart>
      <c:catAx>
        <c:axId val="41518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06343"/>
        <c:crosses val="autoZero"/>
        <c:auto val="1"/>
        <c:lblAlgn val="ctr"/>
        <c:lblOffset val="100"/>
        <c:noMultiLvlLbl val="0"/>
      </c:catAx>
      <c:valAx>
        <c:axId val="48206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18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FF14-45CE-4C78-B8DB-ADE7A194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CC6-7A10-4E59-BEB7-020A91FF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0D41-B418-4483-8B4F-E470E8E7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DB7-657F-4229-A935-ED590686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C5E-8FA3-4FDF-8339-5B478116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147C-87C0-4862-B0BC-46E3B27F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639E-BF73-45BA-B5E2-DA10E084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0EFC-591C-4369-B1AF-467BDD09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94E7-55C4-4C1F-ACE3-0C32A53D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9152-A2F1-45CB-A303-FE162B93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6632-80D4-4900-BDEC-73D8D1AF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1F2-8B0D-4B8A-ADC5-BEE7FFF2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8FAED-D2A0-41DC-B6A2-B68EC26E9D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