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2099"/>
        <c:axId val="14118836"/>
      </c:barChart>
      <c:catAx>
        <c:axId val="57412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8836"/>
        <c:crosses val="autoZero"/>
        <c:auto val="1"/>
        <c:lblAlgn val="ctr"/>
        <c:lblOffset val="100"/>
        <c:noMultiLvlLbl val="0"/>
      </c:catAx>
      <c:valAx>
        <c:axId val="14118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2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9C4-F37B-4B08-8387-3862AE68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BEB-363F-497C-A992-236BA9F1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AE4-A5D4-4294-A67A-09ADE58E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7B7-04E1-403D-8421-96DA0CEA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ED1-55A6-44DA-ACE3-27303B80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A75-B57E-4CB3-A2B9-FFB1A19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F0CC-DBCF-4541-9715-C2B55CB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D88-4D63-4DD4-BE77-067D4B39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3B1-E8BD-41A5-B8B8-6C583F3F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03F-2892-461C-B230-9A00934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F96-E41E-465F-8EA0-3DC027C5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BD2-D0F4-4A3C-8AAD-D97113C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5B29E-3C1A-43E8-95F4-59D0567402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