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056652"/>
        <c:axId val="1074622"/>
      </c:barChart>
      <c:catAx>
        <c:axId val="140566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4622"/>
        <c:crosses val="autoZero"/>
        <c:auto val="1"/>
        <c:lblAlgn val="ctr"/>
        <c:lblOffset val="100"/>
        <c:noMultiLvlLbl val="0"/>
      </c:catAx>
      <c:valAx>
        <c:axId val="10746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0566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9A2B-E5E1-4357-832B-DC076EDCC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9D9E-28F8-401B-B1D2-50A2D92F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3DD0-086C-447D-8418-629DE350F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29E2-EF9B-4024-941E-EC2E402A2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3B6E-1898-488E-B042-63D20EAD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EA72-3607-4034-8758-C4FC27BE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54C1-0458-401F-8247-20D45A01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F935-6548-4445-AC54-3DD993A5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3F08-B158-4A2D-A7CB-81E36867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20A4-E70E-4A4C-9F0D-1CEE73CF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A08E-E0FD-4EA5-ABC5-58DEEEF7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6CAE-0232-4C25-AD0F-080CEEBF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E470D-556C-4030-8003-A3D827A462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