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98843"/>
        <c:axId val="88938227"/>
      </c:barChart>
      <c:catAx>
        <c:axId val="28898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38227"/>
        <c:crosses val="autoZero"/>
        <c:auto val="1"/>
        <c:lblAlgn val="ctr"/>
        <c:lblOffset val="100"/>
        <c:noMultiLvlLbl val="0"/>
      </c:catAx>
      <c:valAx>
        <c:axId val="88938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98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5F0-8EB1-4ED2-A87C-FE77D56D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52C-D6AC-42BD-AAB1-576B4FAB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A0B-BE6F-46AC-A2F7-5D85C3FC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0B7-E2DC-4B41-8E56-CD2247C6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956-BBD5-49A2-8FD6-7DBD4D12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D5D-AC95-45A6-B016-941F66C8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3CA-1B69-4919-A6D8-002CA686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7CE-065E-4F37-AECC-810C6244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3CB-947A-45A9-BE7D-5009AAC2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93F-DE34-4D83-84F6-1BAB8D63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D5C-9C26-4DE1-A2F5-E231427A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3D2-D026-44B7-B914-00F030EB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F9A1D-E00D-4687-8BE1-54036F1540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