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18676"/>
        <c:axId val="67747530"/>
      </c:barChart>
      <c:catAx>
        <c:axId val="24118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47530"/>
        <c:crosses val="autoZero"/>
        <c:auto val="1"/>
        <c:lblAlgn val="ctr"/>
        <c:lblOffset val="100"/>
        <c:noMultiLvlLbl val="0"/>
      </c:catAx>
      <c:valAx>
        <c:axId val="67747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18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58D-FE91-4B97-A3BB-38E79981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C1A-3B06-4A6B-96DD-12A9535C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968-1E67-4E94-8676-99C0AA7B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F54-C982-4D93-AA78-3EDE619F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5D2-034F-4615-856A-5564712E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57B-0573-4F55-BF7A-2A32761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8CB-47B2-4E77-B085-CC4399A0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78D-2ECA-4688-BA33-C5265FB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BBE-A599-4E53-AF53-CF867194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94A-A3ED-40DA-BF62-BAD991E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586-CEBC-415D-99A4-6351F077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8B2-B267-45FA-A73E-F37CD1A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59591-AF53-481D-B351-0CE8DC62FE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