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19524"/>
        <c:axId val="26095710"/>
      </c:barChart>
      <c:catAx>
        <c:axId val="91119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95710"/>
        <c:crosses val="autoZero"/>
        <c:auto val="1"/>
        <c:lblAlgn val="ctr"/>
        <c:lblOffset val="100"/>
        <c:noMultiLvlLbl val="0"/>
      </c:catAx>
      <c:valAx>
        <c:axId val="26095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19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CBF-DA0A-402D-8E84-51B8B8DE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ABE-0F3D-4DEF-8F68-E129DDDF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FED-51FE-411F-B12F-D404972C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B04-1F5E-4139-A95C-FD592CBD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05E-7B40-4BFF-9EEA-D66629A2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BBB-7190-4EF9-9848-137FF05A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0DF-B215-4BDB-9AA6-5C4064DA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AD9-83A5-4E34-AA34-485EB1B4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852-986E-41AC-A5E6-9AB9D727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1FF-2296-4664-AAA2-B4824F61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B25-BE8C-4E96-AACF-3EB2DF6F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3AA-8177-4F8A-B1D7-80ADC08D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4A8FE-54FC-46F1-895B-AED4A6DE88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