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5323"/>
        <c:axId val="70327823"/>
      </c:barChart>
      <c:catAx>
        <c:axId val="7645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27823"/>
        <c:crosses val="autoZero"/>
        <c:auto val="1"/>
        <c:lblAlgn val="ctr"/>
        <c:lblOffset val="100"/>
        <c:noMultiLvlLbl val="0"/>
      </c:catAx>
      <c:valAx>
        <c:axId val="70327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5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39B-0A1C-45CD-A685-9348C900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206-E82E-4FD6-AC47-CC3DA43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A20-BDFE-4749-B29E-F5A1E1B0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AE7-3886-4CED-A7CA-238BCD34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E9A-B2C9-4F3A-A812-C36487DA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0A7-D8E7-4E66-8CD2-83D86202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4EC-6749-4044-A17F-278FD62F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E32-0A80-4C3F-917D-5225CFF4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E52-4B00-48B4-AB7B-46BE01C8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0AC-7E0C-42D2-B411-98BAEF9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9DC-652D-4A80-ACDD-9FBE1C3B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0E5-6666-441C-853B-7947A1E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B4D29-92CB-46C9-BC42-40CEF606ED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