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17775"/>
        <c:axId val="88102938"/>
      </c:barChart>
      <c:catAx>
        <c:axId val="21217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02938"/>
        <c:crosses val="autoZero"/>
        <c:auto val="1"/>
        <c:lblAlgn val="ctr"/>
        <c:lblOffset val="100"/>
        <c:noMultiLvlLbl val="0"/>
      </c:catAx>
      <c:valAx>
        <c:axId val="88102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17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762-966B-416E-AB95-331DEF92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B9A-741F-48FF-82FE-A48E825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75B-D953-4AB6-8072-A598C5D1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329-12B8-4737-B5B4-1751A2D4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A0F-DF21-4BB8-B37B-0BB95AAF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22C-6202-406D-A67C-68D6DFF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B5C-B12D-4593-9C9C-EF25B14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494-E9D0-46E5-A54A-229F906C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D2B-9F68-41F5-9239-6537910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516-1391-4428-B13B-DB552B2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F4F-888C-4E47-87DA-42D0E40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4FB-EBBA-425A-9567-A16F068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96D7-1B0E-4038-9D70-54BFDD03B5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