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45372"/>
        <c:axId val="46953122"/>
      </c:barChart>
      <c:catAx>
        <c:axId val="43245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53122"/>
        <c:crosses val="autoZero"/>
        <c:auto val="1"/>
        <c:lblAlgn val="ctr"/>
        <c:lblOffset val="100"/>
        <c:noMultiLvlLbl val="0"/>
      </c:catAx>
      <c:valAx>
        <c:axId val="46953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45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335-3C29-49D1-B1AF-F58002D4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CC9-7E89-4D86-8AFA-F0C2886C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5AA-C78F-4A1D-B62C-6990705D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404-F155-43C6-80D8-B426E308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890-62A1-494F-8C2F-6EAEFA1B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76D-EAD4-41C7-93D2-8AA48D33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B98-2D52-4281-8A80-8C79F080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648-0643-402F-80B7-98E8B56C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DEF-519E-4A0F-9E95-3471EF2D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ED2-1CEA-42EB-A531-31C78554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7D9-AE30-4ED2-827C-040D941F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617-6DE1-492B-809B-88730191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8DC54-EE3B-4254-8A11-0A444E84DD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