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142823"/>
        <c:axId val="3462612"/>
      </c:barChart>
      <c:catAx>
        <c:axId val="661428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2612"/>
        <c:crosses val="autoZero"/>
        <c:auto val="1"/>
        <c:lblAlgn val="ctr"/>
        <c:lblOffset val="100"/>
        <c:noMultiLvlLbl val="0"/>
      </c:catAx>
      <c:valAx>
        <c:axId val="34626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428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F1F3-7F61-4C26-9902-2BDE5CF4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0600-B575-4ED5-B099-373E0A77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E8B4-3984-48BA-89F6-7D718FAA0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4DC8-B65F-4015-9558-D60382F3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9FD8-34FD-43A3-A922-CF937A9B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283E-C3E6-4DCA-AC33-F5E514E0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7E43-3529-489C-92CF-AFA057D6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F91F-B838-4843-BE7B-91D28A67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7F59-F281-4E26-9CAB-8F2AE285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1ACF-D391-4387-9D70-C9F293F5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4D27-2B14-403A-BF27-DF579E6B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405E-A6FA-4898-9681-9027DB35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6C8D86-913F-4DCB-BB55-57F2D347AC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