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22647"/>
        <c:axId val="94623496"/>
      </c:barChart>
      <c:catAx>
        <c:axId val="80226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623496"/>
        <c:crosses val="autoZero"/>
        <c:auto val="1"/>
        <c:lblAlgn val="ctr"/>
        <c:lblOffset val="100"/>
        <c:noMultiLvlLbl val="0"/>
      </c:catAx>
      <c:valAx>
        <c:axId val="946234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226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73EB-76FD-4C6F-B5CF-4DFF594AC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E8D7-D5A1-4DA4-B4C5-C9D6B281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E5B9-ECEA-4D63-B0C8-DBC4E42AC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F99C-ADB4-47E2-BB7F-4463611B6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A8F6-93B2-4080-A67A-32F7B1AC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6000-E989-41A1-A9E9-C249E4AB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E60C-D4EC-45F6-9530-68472532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3931-29F3-4F1B-8CBB-DA8EB3F2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96DC-8288-4ADE-B4A7-DF43D284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1693-9DE5-4B6F-96DE-76F6DC0F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4A21-C6C2-4F37-A9A7-51576DD3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D1C1-7D2B-4516-98D8-A18EAD43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28AE8B-C174-4969-9942-52D246C5B6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