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39623"/>
        <c:axId val="68530705"/>
      </c:barChart>
      <c:catAx>
        <c:axId val="32039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0705"/>
        <c:crosses val="autoZero"/>
        <c:auto val="1"/>
        <c:lblAlgn val="ctr"/>
        <c:lblOffset val="100"/>
        <c:noMultiLvlLbl val="0"/>
      </c:catAx>
      <c:valAx>
        <c:axId val="685307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39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F0B7-134D-4888-A2B8-83DAB1E3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05A-2236-423E-AD49-C52101AB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C41-5509-49E5-A5A8-6496005C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F00F-0B71-4917-8073-675014E6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552-3054-4667-AFBD-FB2D9AD5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642-65BF-4A86-894C-D9704EF1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8B0-7F16-4339-BF89-0B6AA4B5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685-44B4-4D10-8426-1FD88338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4B6-638B-4304-97F9-B042C1E7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D4C-3BFC-4CFC-845B-5CE3CEA2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5B3-65DF-48BD-9AAC-5BA7E60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71F-70D6-482D-8FB9-69233451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388EB-F46F-4BC5-A167-F9AEF9524A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