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876916"/>
        <c:axId val="10216059"/>
      </c:barChart>
      <c:catAx>
        <c:axId val="388769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216059"/>
        <c:crosses val="autoZero"/>
        <c:auto val="1"/>
        <c:lblAlgn val="ctr"/>
        <c:lblOffset val="100"/>
        <c:noMultiLvlLbl val="0"/>
      </c:catAx>
      <c:valAx>
        <c:axId val="102160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8769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C0FE-A26B-452E-9F70-83D714BE6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3F8A-F285-4D0D-A145-7E573BBEF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4ADD-5660-4BD9-A5C2-08F275FFE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D81F-CFFA-480E-BDF1-219966975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717F-8373-4658-AC64-1E3D8C97D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C11E-B8A5-43BE-8DBA-EEE58FBAE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4D1B-7F15-4DAE-A5E1-E2F9F87F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6ADE-2923-40F7-9DB4-113F2D92A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901E-B5CD-488F-BF67-EFB581EA5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3BCA-7CE6-4C72-A359-4110D070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0960-9BC5-45BC-AE06-7C1896BE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5079-B587-4061-ABA9-FB0EA85C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6F7A0F-14F4-4DCB-90AC-41A3E469433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