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961215"/>
        <c:axId val="81650670"/>
      </c:barChart>
      <c:catAx>
        <c:axId val="296121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650670"/>
        <c:crosses val="autoZero"/>
        <c:auto val="1"/>
        <c:lblAlgn val="ctr"/>
        <c:lblOffset val="100"/>
        <c:noMultiLvlLbl val="0"/>
      </c:catAx>
      <c:valAx>
        <c:axId val="8165067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6121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5AC45-1085-4603-9F0F-ADB80DB59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E7739-2717-4E9D-AC18-8FD48A166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2B0E2-00C6-4D22-B5DE-9089BBF67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878C5-94FF-45E7-B6FC-BD62880C7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B5D75-A8DE-41D4-B2C2-F101CE14A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3A70E-F372-4A23-B7F0-496E44ECB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A7A44-7C29-4C68-B29D-002791823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5B06A-D8CB-4AB3-A940-189D10DA1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5B29A-9607-4678-B47E-0612C4E6C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CFCDE-D007-47AC-980B-352694040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0172F-C3AE-43B8-90F7-6A81D58FA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FFED0-1002-4161-BB6C-48732EA3B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537831-876A-49A5-83A9-1479832D1F5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