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679681"/>
        <c:axId val="69772850"/>
      </c:barChart>
      <c:catAx>
        <c:axId val="806796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72850"/>
        <c:crosses val="autoZero"/>
        <c:auto val="1"/>
        <c:lblAlgn val="ctr"/>
        <c:lblOffset val="100"/>
        <c:noMultiLvlLbl val="0"/>
      </c:catAx>
      <c:valAx>
        <c:axId val="697728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796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D1E3-A9C5-44E4-AE0B-26BD1036D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6F98-CADB-4EB0-8EAF-82E3AD45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BC95-5406-44C2-9EB2-027731A1A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EFAF-F087-4AB6-8732-78AC76A8B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4D24-364A-41CF-85FD-80AE4919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100B-A890-4806-8994-360C2A3C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AD8E-39C2-4165-8A9E-41F8164A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54BF-45A5-443B-A5DA-72098AA1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0081-3F64-4C9A-9CBF-9BD67A3A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C7B9-661E-483C-BA64-5E855B9D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A572-92EC-4443-B13B-E3E7C439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DDE4-8D43-462C-97F8-63E1CF28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A4271-1EB6-4A4D-90E0-7706B2E530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