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86266"/>
        <c:axId val="79511368"/>
      </c:barChart>
      <c:catAx>
        <c:axId val="20486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11368"/>
        <c:crosses val="autoZero"/>
        <c:auto val="1"/>
        <c:lblAlgn val="ctr"/>
        <c:lblOffset val="100"/>
        <c:noMultiLvlLbl val="0"/>
      </c:catAx>
      <c:valAx>
        <c:axId val="79511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86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7CF-5E17-4911-887D-5B83E9D9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357-3FD6-47B6-AC5A-75414B95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A38-52F6-4A79-9E0B-E43260E1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BA5-AB9E-4496-9306-5E08DFC2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002-926D-49C0-BB7A-3B1FEE38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686-E2E8-4A51-9BC5-1BABD905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BE0-02F5-4E04-BE97-AE8C224D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0F9-5B93-4D1A-9360-ED93F979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10F-145D-43C5-9112-541FA1DF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6B5-B4DE-4152-B045-495FB10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753-97B0-4090-8293-36D25C7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870-57D3-4B38-8082-26CD0DBB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EFFEC-623B-4481-8A28-F004335C1C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