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18015"/>
        <c:axId val="63428394"/>
      </c:barChart>
      <c:catAx>
        <c:axId val="51018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8394"/>
        <c:crosses val="autoZero"/>
        <c:auto val="1"/>
        <c:lblAlgn val="ctr"/>
        <c:lblOffset val="100"/>
        <c:noMultiLvlLbl val="0"/>
      </c:catAx>
      <c:valAx>
        <c:axId val="63428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18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D74-AD1D-48E9-9CAF-142BA348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D42-4828-4E29-A1A0-126CCBC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5D-D298-4807-BC89-C01ADD0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9FC-0B3C-4D4B-8BCC-00D6A33D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FBB-7F5B-4046-9A34-64D7A6D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22D-131C-4CAF-A399-D43F51C1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367-4DF7-49F5-9A21-168AAD4E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74C-7D98-4A64-96E8-73B1BFFC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217-2B7E-4E9B-A7F6-0AFD3BD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E5C-CD60-4D57-AFEF-FEA7FE1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E8E-703D-4E32-B3C1-46B8E4A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AFA-84B1-4909-B40F-CBDFCFF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5C662-B3B0-4F87-9E1A-86F65FF03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