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AA9-E736-4DC0-BD2D-A1A480F5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DA2-1762-4BB6-B9CF-0FC009B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0FD2D-026F-4CC6-9D8E-302B0529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74C8E-1130-44F9-8913-BE0ED8F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D569A-B333-4CD3-A8BE-046EC44D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41A21-769B-4F74-AA16-FEFB9C5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C4667-C6FB-46FD-9959-0FC84BF0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BE6F7-C5A6-44AE-B9F5-99DA3F26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C5901-E2BF-4E7B-8F40-17ABF20D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DD2A9-6931-4444-99C2-6C1E9E4B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F86FE-B9E6-459E-B504-8C1438F3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21A422-537B-42D5-8231-B34E3BE7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5F9-6377-40FD-8FB2-2D240AE6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49559-1C2F-42E5-BF68-82551FF5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EEC84C-97B4-4039-BAF0-C12071C6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77161-192E-4A3D-BCC1-AFC6F7D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846B64-29F7-45A8-90C6-38F893C4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FBBFDB-811B-4969-96EC-4F779116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555972-74FF-4DD3-8DAC-4974086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795A58-B318-43A3-A90A-03ED55C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0050E1-8DCE-4E5E-9A0E-27B7B42F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D2A084-3DF4-4E1D-90E1-849FD69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04573D-3445-44B6-A6EB-EB14C689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F0C-3678-4CEA-B31A-7B47196D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87D9D-F440-454B-97D8-9A9D7666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35454-7955-4DF2-80B5-91B293B6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5170C-12F3-43A3-9043-CE8B430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EE231-96AC-45A0-949B-8ECF5527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DD2D-5794-4E8D-AF26-8AEA75D9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3BE36-AB19-400F-BAEE-9EE018B4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1EEE5-80C3-4474-A095-0FAD83CC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9336-8A21-4BF1-8BE6-E2C7F7D3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D94ED-CF30-428B-84F3-8E5C742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8DFBA-4520-4102-8F13-162A952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BB26-3597-43CE-8F83-3BC69FDE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00033-7BA7-4F89-B7C1-5E6A30A1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E7618-719B-4CD9-BF9A-A26DE5BB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2D078-FEDF-41DA-9073-C4856938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57B87-CFA2-4373-AE05-16D01796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52001-ACB8-4AB5-B29D-15F8CD70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4346-F2E2-4F69-8FD2-C24CA62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97D32-C55C-4332-8254-F71CA9E6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44F37-4081-4EAF-AB2E-D29EBA9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F15DD-309E-4E08-95FE-AED74E10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45365-AAF0-4AA8-85C1-725DE96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23FB-8BB3-4288-AC9C-B98444ED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28524-D97E-40D9-BF52-A4965B5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E36A6-6D7E-4C13-9923-BF9769FD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556BB-CB9C-44AC-AEF9-8DD666C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F6470-9376-42AE-B2B2-E2A85DCC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F94A-49BE-45A4-BE3A-98652359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81A0-FBC9-4E91-AD49-26747F9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D3AA-4F0D-4A0A-984E-11795407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3DAB-700E-4ED5-8D81-A4D4216A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7210-F19B-41A4-8D8F-18C3917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8764-2F38-4EFF-8E44-39F901E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876-8E78-43C5-96D4-01903BC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E688-8991-4789-AA37-7987CEA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668C-7123-4A94-8316-5013208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DDE-B0BD-40AB-9A2A-F742B37D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FDD1-0947-40B1-8A07-065B2A64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55BC-FBE1-49C1-AD8B-4CAD6FC2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0EA6-4A3D-4276-BADD-02D32ECD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7D21-7F20-440B-85C2-43861228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0092-A569-4AEF-8D13-3DD7FC03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E902-A765-4DA3-A236-ABD15ED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8724E-DFE7-475D-A32F-83117A98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EA66-64BF-4AA5-AB66-6578B4EC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1CBF-6E35-49DD-926D-E10EA28A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6841-2129-43AA-8250-7B5EBAA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9030-33D8-4E4B-9953-59E00E4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A8C88-A2B3-4BEC-9D6D-0450B445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5F2C-DBB6-4143-88AD-AB47AFA2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E531-6B0B-474F-93A1-87E02AC7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54CE-41AC-4605-8448-F2F2515C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3F13-319B-432B-B485-C5311EB06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53CB2-6E3D-401F-8282-93DAAFF6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C471-918A-4C46-929D-56D8B5E9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9BC-D28D-4BD5-A6C7-6DEE1C6F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1CCD-4418-4E47-8184-1B5DD628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0FFCA-5821-4095-817A-24BA8A9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A796-66C6-4ADB-BAF0-60CEF77B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ABE8-2719-491C-8C48-B93EBB8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5C6F-9E2B-4B63-886F-99AB276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C6E3-67C2-452F-8D29-6A158FF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07DD-5D91-4B2C-8B3C-271E6864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A10B5-0A0F-489C-AE45-F066F5E8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FB25-6F3D-472C-BCD5-CE83DE0F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6BD0B-2DAB-4AB9-AD13-D5BC8682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5EC-C915-4C26-BC11-F5CE44C8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729ED-76FC-45A7-805D-5344F08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A2266-1CE3-4E1B-BDFD-34F16C0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4F8B7-CA9B-47B1-BDB3-BA56CCE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59DB2-684E-4263-B29F-803EC777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EFD50-EEFA-4DB8-9F3F-BA857EF6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19DD5-94B0-4233-951E-CBACD441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F1045-C6C1-43F4-A3F4-F5CE599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DA88F-B0A5-426B-AB75-1CE965D1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7AB7D-61BD-4868-9ECD-C3E798E4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2F43D-0295-4BF6-9BB9-98640A1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C75-7B76-4331-875C-BE3475E3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6720F-EA3D-43BC-BECA-003F6E02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DB24-2788-4BF0-B146-2EE324BC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5481-2D47-4A2E-97FE-CEC827F6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56BD-8B33-4237-AE30-31E00B5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7E0B-B04A-497E-94A7-22205CEA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B4A8A-ABCF-4885-B45D-A6F87FDD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9E07D-E3EA-4FA7-BF7C-7E835615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0AFC-A2B3-46F3-B007-7F99817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72C7D-DC44-4A96-8B84-F620BFB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C2E4F-BB16-4870-84C5-EA6CD25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71F-DAD1-4B44-8576-8580A7E1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95022-B669-4910-8ACC-4C8091DD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6010F-3884-4A16-8EDE-B65D52C0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C99C-82ED-40BF-8C74-8B35660C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BEE59-C426-4FA2-AE00-C593052A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8755E-564A-41F4-AE8E-26DFBCAE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F9764-1D6D-4F33-9CCF-7F59AC1A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C10BE-4255-4ABA-B930-D61B230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072D3-2B0A-49AB-B074-B65B1089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366C-876C-419F-A89A-62BB06B7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4FCD0-85C9-4667-8C16-6CD8532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E6E-A0D1-42DD-A1E7-A908779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A5AFD-6E28-4997-BAE3-A65ACB2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DF5A0-12E2-4D3F-9DDF-9B09794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AFCB-D545-45E5-B653-EBC5F64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F957-BD09-45F8-A255-88957527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6D7C6-F60E-49B3-82CC-7E9BC471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80C1-FCD8-4F8F-9BC7-31E51DC8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2B143-0359-47DB-824E-3CFC8C3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C90A-D081-4557-B928-58A276AD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04FC2-603B-4BF4-9C1C-92F6AB81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756A-B3F4-4FCF-B72D-2BDA0CA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F53-00F9-4533-8F2F-F30D50DA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29CB-1215-42F9-954E-6E5FDBBC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92A4-2792-4F5A-A538-61C900B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55582-1003-40E9-9A1C-3B7B371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F04CB-BC45-487E-965E-938A6442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5FDC7-B6A4-456F-A55D-72885FB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E25E0-CC77-4FDC-9F94-A78736CB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AD43-46A9-408B-BC5A-F03FD1CF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C8F15-EC59-4E68-9D4D-65E752C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F704-F2A7-4CF5-BDD8-706F4011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B5DC9-2575-409D-B0FA-2C5DDD5E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E0AE-28A9-4F4D-9719-9F823DFA703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BFD3-6100-4735-8ABF-24D0EAACE7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63E4-2080-44AE-BF37-37A3684264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A808-6F93-45E3-AAD4-E4E885A1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0FC-9E19-4A0A-951E-1E972430967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F76-C581-493B-ADA4-F9FEE8051A4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5773-3FA7-4F85-B44F-1E4E4EDDD86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1526-C3EC-4213-9498-5F6C290F1C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8C8D-58E6-4BC5-9537-D52F8583CF2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E28-1479-4704-9062-06000D3A14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C1F7-F24D-4E82-AFD3-19B33508C5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EA2-12CB-46B5-A55F-1F7921505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D231-2FAF-499F-B04A-CB8BC3FFA4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B3AE-F5F8-454C-B268-39C958582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EADE-0B55-458C-B705-F9F5301E33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DE67-05D8-411E-8144-0EDD1857666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8990-637D-4F1C-97CC-2351EB7E98F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B618-6DD4-4C13-B581-D448BEB6121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1D2-26C8-41AC-9ED3-CAB9F1F0B24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CB15-DD7F-45A3-B848-2BAF22F6F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24BC-3D1B-41E6-80C1-BA221AE000B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8E1-F75E-4D00-B215-F5B769405B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CCB-EC98-436A-A6BC-B8B7CDE48B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54DF-23BE-472A-A0D1-23DA7A7F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61C-B8C4-4C95-A4AA-2692EE5044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9AA2B-5729-424B-99C8-3883F8CA7E9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F960C-37F1-4389-8A0C-6477FB6ED1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EB0A9A2-6A79-4418-855E-737E03F0BBB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0" dur="123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1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3" dur="123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09838-44FB-4AB0-9C24-57990D3C8C85}" type="slidenum">
              <a:t>3</a:t>
            </a:fld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FFEAD-F169-4DC2-AFA7-89E525C20F7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5305FFB-E70C-43C2-AA26-A7908F7030F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4A9B-83AC-4803-A580-9EABD3602E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353B7C7-9B50-4692-A718-5A8C7712FC47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9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10F1D-7EFA-4759-908B-89DAE9D03E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5909669-41EE-4B95-9B58-A6263952ED69}" type="datetime1">
              <a:rPr lang="en-US"/>
              <a:t>07/28/26</a:t>
            </a:fld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