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BE6-4F27-4050-9035-2135269D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E164-754C-43AA-B11D-D888757A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A348F-273D-4EF2-AE9A-031C1D39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338CF-4F09-4723-857A-BFBB750E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B9968-3633-4A9A-B0DA-40E19043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A523D-C96A-4621-B4AA-DF8C25D6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198F8-70F1-4BD0-9494-1D1C44F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C69EF-ABD3-4F95-9C3F-9B1AE118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C81BC-092E-4A7C-9BB0-C1A11251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C5241-6434-41E0-BD61-0DEE95D1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B017E-E1CB-45BF-A84D-4CBC5CB6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6E5901-AA17-466A-A52E-C729E48C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EAA-B159-4C73-A151-7A346CA2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2AB6CE-1641-4CD1-BA46-1D3EC6F7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C2FE77-98A7-496E-AD1B-F9C1665A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F6F883-B73C-4052-A218-B2703A13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CA3FC9-C1D2-4558-8F65-EC6AFD04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7D76FD-0B30-41BB-90B0-6C4FD6AF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5006D3-02E3-45D6-BD38-D1243AF3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CACE24-A444-4E4B-B681-7A1D8A16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6C5C8B-8A07-4733-B570-7B8330AD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897935-0E11-47A1-A056-1C89F82A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76E26-E9A3-4F60-B36F-EABB6608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ED3-E37F-4894-8A1D-06838664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DE64A4-472F-4E87-B1BB-780E1991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D3593-0765-4BED-B1B8-066355AD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4AC9B-3C46-4E4F-BA7B-A86F7BAE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251BF-E910-4242-A471-4AE64E9F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1186A-DE37-4748-8E48-170AC13D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2924A-4DCE-40C9-89A3-7E1BD8DC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5B620-F548-444D-AC1F-0380BBFF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AE274-1B51-4A5F-A0AB-2E39B24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C34EB-5DAB-43C9-9281-5E07555C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491EB-3EC4-430F-B3D7-1B94C17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CA41-F300-4712-ABA8-717F6C50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8D440-6325-493F-B42C-B57514EE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8142A-4F93-42BD-9E69-4134A30C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58DC5-1E62-475F-A1CA-3D95B85C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3005B-DB92-4875-8F63-D2F68A53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6A964-A4E8-4038-8FB6-5E83A95A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A6DFE-E842-4CBB-9A4A-A7FB7280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21EE6-8B75-40C0-98EE-88690623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23A24-47E1-4B2C-BE80-DCE857BA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D4DC3-D805-4C08-944A-ECD829B8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8C7D8-6924-4E2E-96C8-45F7520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24A9-1412-4B23-91DF-5D3CA58A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A6E4A-738A-4294-819A-5AF9A754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2E668-E9B2-4A91-A59A-1A1266A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FF8E0-0A4C-471A-BB97-9F9E135E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E5769-A470-4D6F-8B94-712FF6D0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BF6C3-2C57-4F22-8972-4E55B006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3266-9225-422C-9C8E-96465657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A02F-844D-4D33-9974-74D525A4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68E-53E8-43F7-86D8-85627D26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2D49-1118-44F1-858A-1753F8FD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CB4C-30DA-41D7-A6A0-8EE5E9C0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D38-AF08-41E0-B50B-E17EC1A8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1345-912B-418A-B039-BBBEECFF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5FC5-2E49-4BBB-ABBF-F668712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AF48-C340-4ABD-8B46-485F0FCF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C66A-9E69-44E2-9C6C-7F722EB9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E8F8-D986-4849-B24E-47F01BED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790D-EBDD-42E8-A4A0-173FD59D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96C1-6340-4BBA-857C-5185DA3D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22A7-3EAC-48B9-9E84-82803D99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2EE0-0B37-4D42-902B-7956E1F5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14B4-A2D7-4BFA-81E5-48E36888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6DA-8E74-4D81-A009-E5FA8DB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4280-3FD6-4822-8F92-121965C6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C454-E883-455D-BE63-7B5C5DC4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DCC0-8A0A-4594-9A62-4F4BC94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9DAD-E577-4726-90D2-7C83D037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FD1B-268B-4E55-81F5-5B833BAF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C757-1FE3-4AD3-92C4-376E230B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70284-F785-4865-9287-1E407ADA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10929-17EF-44DE-8C15-7E5E132E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B993-A66B-48DC-AC25-5F1AC56F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529A-F05F-4F4A-972B-C0D2F615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F8B-830D-4736-A031-D4D2026A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ED73-8A65-4BC9-9793-0569A473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141F7-C1CC-49C0-8E83-2409ADF2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C786-4D87-4CF3-8266-B3BB54B9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D674-353D-4E59-B998-5CD748AF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97DE-A403-4903-9D64-4BD8297A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ECA61-0A51-4A70-993F-47ADB6C7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F182B-CFDA-4C5E-8FD9-67F74B4D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476B-4D2F-4D10-87D8-5EFC412C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1261-EE92-4109-AF40-9ECDB03D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A414C-7867-4C99-B29F-08C77BAA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CB2-5F9E-434F-A187-1BC0126F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2A93B-A189-4FEA-B3A2-5CC3C60C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3A0E1-9622-4CE2-9784-354990B3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C6278-7602-419E-997A-1CE6A0D1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35D23-728D-4DB7-BEA7-1FADAC00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1075F-DEF5-4B89-A56E-5730C33F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78073-CBA8-44C6-8F61-1D186D51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89BF0-7498-45F7-ABA2-085D160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B66DE-E0DD-45C9-B1C2-D7D17453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89A40-4E42-49EB-96D5-66E6106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B4FE0-CEF4-4FB0-A039-C6DC5360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DDB-A3F6-4C7D-A8BE-F3259C11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C6FE8-926F-4EDD-9C28-EC5508FA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EE205-3AE6-44DB-807D-D83FD935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61AEC-D2A0-4569-A781-0CFB30F9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61382-5693-4483-ADBA-1EEF3892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E5A2B-867A-407D-9D9E-FAA7AEE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3407D-A60D-4F0C-BD59-81A77BFD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4FE01-EE1B-4872-ABFB-40A7A261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B6B84-6171-4A0B-AEA4-576E2E66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43BDE-EC1D-4AFD-8775-FC7E829C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FE885-ACE5-4B6D-83A1-94C8A12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94E-D1F9-4A60-AAB8-E61274BB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E04C-F337-430D-BD87-A620A0C5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DD31-36FF-4828-BC0E-3B1DC579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2F13-6B27-4E83-92D4-399F84E2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3FA7A-000F-472E-97CC-FA0591E5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0783F-AC2A-4220-8F24-F7DAC1DB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B189-14D9-46DF-BDA8-BF671658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4CA41-9E35-4BD5-84C6-E9967BFA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CC98A-EE5A-468D-A558-E860348E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9FE80-F76B-4867-8E64-2D699E14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EB5B0-E105-45E7-B4C4-354FE858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339-0E6E-47D1-A90B-DFD6BCB1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50A25-73DC-4EB8-8007-9FED20DC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505B-2AAA-4380-B31F-4637E760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499D0-0ACE-41C1-9244-E7DBF30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69D65-1396-4EBC-B144-FB612CFF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22B6-DD20-487C-95D9-6352363B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F558E-82AF-4B39-8C0B-A14211A1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0BB8A-7E25-4975-BA1E-4A695D18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FE744-CBAE-44B4-9BE4-4DAED6EB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1AFE8-4C3F-4A4B-BC80-E35B9921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AE438-D674-4CF1-BC1B-8750197D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57C-D5B0-4DB6-8AF1-CDF04FF4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E02C6-FA07-45E6-8397-52D558E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20A7D-1ABC-4550-9EB2-8639A84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D952-7883-4402-AEC8-A05B4B47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0CE08-B457-417C-ADE3-413E703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70D41-CEFF-4295-A120-C4682055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96F28-0A11-4FC7-86BE-ACB5E6FC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BE3B-7536-4727-BF5E-41957ECE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CB828-C1F2-44D9-9CA8-9ED55115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4B039-F7C4-4473-9D40-1C98499B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17F40-EC6B-4B54-86C5-80C2E46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FFE1-0DB1-46A3-9578-B8F790D4C56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DEF5-1CE4-409D-9C5A-64357DC9FB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0C59-6F89-49EB-B8A1-0B76CB244F6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F36F-5D8D-486A-8FAD-A8D7B79B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DAC4-3F8C-466F-BF1B-4EB04396B2B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76DC-0102-4901-AD3E-CAA95AB15D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6344-DDFA-486F-A5F6-297892A5267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DDCF-E1AF-413F-AA92-73735FE5DD1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3378-1442-49FB-961E-6AE0E545B14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E34D-8CF6-4CA8-BE79-3B57BA2652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B5D9-33C5-4102-83F1-119647651E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19C2-079F-435F-8A76-46B43AFFF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C0A7-1335-4FDE-8FD3-86E64FE890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2413-57E7-4CC6-B497-D406E64DD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2795-B685-4DF4-87B5-60BC6F15B5A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DA2A-4620-4807-87F9-F292CC016FF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EE20-886B-4192-919D-AD2AB7C5EED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F344-DBF0-48F7-9319-F1FAB062D0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B4B1-955D-47B0-B91A-02291DC81E8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5C08-DE5F-48F5-AD1D-E68D74399B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20FC-912F-4F9F-84B4-86F3B2EFEFF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4D9-B160-4218-911D-9D8ABA4913F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325E-84B9-43A9-995E-F6E0D64E0C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49B6-439B-4031-B06E-4B07FB113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C9C-D507-40C4-9801-C1C66934F6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15E35-AA1D-486F-AEC2-146F99880E2B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00729-6C31-4071-9B23-B95CB3CBDA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DA21F1F-9F27-45BF-9EE5-07898EC5B873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E48D-0B6F-4A7D-A96C-46E7BC888E79}" type="slidenum">
              <a:t>3</a:t>
            </a:fld>
          </a:p>
        </p:txBody>
      </p:sp>
    </p:spTree>
  </p:cSld>
  <p:transition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EA2CE-B17F-43D2-A543-DCE05839E30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FC6A3C1-B81E-4788-BABD-3F3143442A7D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E878F-617E-45D4-B55E-D18203EE47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C349A28-EBBE-4896-8515-FCF4B91BD678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25E88-449C-4D42-BD34-81765F6A7C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FD9351F-1946-4272-B55D-3FE07D82B5C4}" type="datetime1">
              <a:rPr lang="en-US"/>
              <a:t>07/29/26</a:t>
            </a:fld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