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93134"/>
        <c:axId val="96566882"/>
      </c:barChart>
      <c:catAx>
        <c:axId val="26293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66882"/>
        <c:crosses val="autoZero"/>
        <c:auto val="1"/>
        <c:lblAlgn val="ctr"/>
        <c:lblOffset val="100"/>
        <c:noMultiLvlLbl val="0"/>
      </c:catAx>
      <c:valAx>
        <c:axId val="96566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93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E83-1C6C-452D-B5C7-530F5F0D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23B-97FE-472D-B735-1D31217C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75C-4E71-44A6-B2A8-6B0D678F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B0E-8C81-4FFF-8F08-9F4D001F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A03-CC33-4CB1-950F-64AD8F7D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98F-8B1E-47A0-AE71-A0A895AF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6F7-A70B-405D-9BC1-F7AE9B48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4EF-9DDB-4153-A621-9432EB51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BED-4913-4436-983B-F7686E39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795-3964-4B8C-B49C-C3B404D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A0A-3BC5-4400-B68E-A93F960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06B-5DEF-436F-94CB-C2AD4BD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916A7-0B5D-4E7A-A998-ADAFA27C2A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