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38554"/>
        <c:axId val="64393756"/>
      </c:barChart>
      <c:catAx>
        <c:axId val="75838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93756"/>
        <c:crosses val="autoZero"/>
        <c:auto val="1"/>
        <c:lblAlgn val="ctr"/>
        <c:lblOffset val="100"/>
        <c:noMultiLvlLbl val="0"/>
      </c:catAx>
      <c:valAx>
        <c:axId val="64393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38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6D7-7739-4271-AEA1-C82D2EE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966-CC9E-4E2A-9082-A2E59F1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01A-7808-4676-8252-EE29607C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6E4-E1B4-4854-902D-D1BC9BDC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0C6-7CCB-449A-BACF-6B67770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05E-3EA7-40F9-8846-4BA2F26B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83E-82A6-4BAC-8768-F82C6ECD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FDE-4CC0-4F76-98D1-0BF455A6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4EA-5DB6-43E0-9DE7-40CBDF56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E3F-0ED4-49DE-92AD-3CDD5AD4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FF4-CD93-417C-AC6F-6286220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76A-30CD-4023-86D9-ADE4E33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95079-52DA-4BBB-88E5-5B45BB1BB5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