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59839"/>
        <c:axId val="93031976"/>
      </c:barChart>
      <c:catAx>
        <c:axId val="21159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31976"/>
        <c:crosses val="autoZero"/>
        <c:auto val="1"/>
        <c:lblAlgn val="ctr"/>
        <c:lblOffset val="100"/>
        <c:noMultiLvlLbl val="0"/>
      </c:catAx>
      <c:valAx>
        <c:axId val="93031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9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389-826A-4A43-B199-33993DF9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B87-0869-4F4F-90C3-8122A06F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C1E-A286-481A-8D92-E9AC3658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D6A-281F-4897-BE93-256FBDD2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FAA-0C2B-4892-A73B-E51551D1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990-5EEB-4CDD-AF23-F24DA3BC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273-477F-47A4-8342-7A62625D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BDF-D14E-46D6-8762-1E473AA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C7B-799D-44DA-B374-DFE8FC3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A8A-646E-41F3-920C-A5547CA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889-CE08-42E3-ACDE-7063896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769-2C0F-4F96-9439-D8D52AE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B7FEE-2745-4A33-9C7B-A1ADC3973B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