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4528"/>
        <c:axId val="80824453"/>
      </c:barChart>
      <c:catAx>
        <c:axId val="7394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24453"/>
        <c:crosses val="autoZero"/>
        <c:auto val="1"/>
        <c:lblAlgn val="ctr"/>
        <c:lblOffset val="100"/>
        <c:noMultiLvlLbl val="0"/>
      </c:catAx>
      <c:valAx>
        <c:axId val="80824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4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43D-D126-454B-ADCC-46CA3161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DD7-ADCF-46EB-93EA-06799F39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9E6-2D21-4F3D-929A-4AB57EE4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888-7809-461F-94E4-DB737060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AA0-BBF6-40DB-81B6-5B84428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B07-A318-425A-94A0-A3EEA554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F0C-E0DF-437D-9853-61376B59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A32-C42D-4ED2-937D-5C03A6A7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CEA-E7E8-4532-B3D5-9BF8C4B0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053-0194-4059-BDA8-CC9CF7EF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EAB-C72D-4443-9491-BFB64B89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19C-98A1-4B1E-B63D-355828C8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5B2DC-4698-43BE-977F-324AA45E09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