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57005"/>
        <c:axId val="37828545"/>
      </c:barChart>
      <c:catAx>
        <c:axId val="78257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28545"/>
        <c:crosses val="autoZero"/>
        <c:auto val="1"/>
        <c:lblAlgn val="ctr"/>
        <c:lblOffset val="100"/>
        <c:noMultiLvlLbl val="0"/>
      </c:catAx>
      <c:valAx>
        <c:axId val="37828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57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738-CD11-42B8-89C9-2C0848C7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5C6-D7FD-4DA9-964D-7902A6FF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768-2689-416D-8C82-8BFFD575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3D3-2AD6-428B-B493-68B2B9AD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676-C91C-4C8A-8C51-54641250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82F-61A4-442D-868D-82951CFE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2FF-22B7-43E8-8050-467F120E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05B-4855-4F0D-A323-99EAEA81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744-9A68-4E40-907B-DA50272C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3D6-33CC-46BF-A976-176B7F66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B1A-2C55-41D3-8C16-E0BB0510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AF6-0DCE-4407-8D58-9DBFA7A9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E6A18-9BC3-4136-B688-E08A3193D6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