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258242"/>
        <c:axId val="97610634"/>
      </c:barChart>
      <c:catAx>
        <c:axId val="652582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10634"/>
        <c:crosses val="autoZero"/>
        <c:auto val="1"/>
        <c:lblAlgn val="ctr"/>
        <c:lblOffset val="100"/>
        <c:noMultiLvlLbl val="0"/>
      </c:catAx>
      <c:valAx>
        <c:axId val="976106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582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C220-DFF2-47D1-9F2C-7D3BE670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538B-9190-4962-94BE-919FCB2B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5763-2F89-4295-A4A2-213313D9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B2FB-11AE-4A55-980C-F0DFDF15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D7D5-EDFE-4353-A4F5-D5243C6C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8B62-E196-4BD0-BB1B-3385DFCA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1540-E700-40E4-8EF0-531FE61A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DD8C-2522-4CEE-A469-3785B17C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6AB5-B457-4D14-943C-F8BCD786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8C61-302B-4BB8-9296-5CA1C8AC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2297-5E24-4E5D-9E9D-BCF207E3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AC95-C4D8-45F7-9D4B-9CBC57F9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CE5E9-743A-4021-84C9-E0F9A10C76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