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595"/>
        <c:axId val="75679301"/>
      </c:barChart>
      <c:catAx>
        <c:axId val="367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9301"/>
        <c:crosses val="autoZero"/>
        <c:auto val="1"/>
        <c:lblAlgn val="ctr"/>
        <c:lblOffset val="100"/>
        <c:noMultiLvlLbl val="0"/>
      </c:catAx>
      <c:valAx>
        <c:axId val="75679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13B-C08C-4DB0-8AD8-650A72D3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18F-D6D4-4AC9-B0D6-18AEB387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F3A-5601-416F-A6CC-7D37C3D9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981-4157-41FC-96B5-5A662391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320-2856-46A4-A78E-1CC1179D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ACE-7571-438C-A5FE-D44497F3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6A4-19B9-4BEB-B47C-29B2264D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BB8-28C5-4026-9990-CBA69F8E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BEC-7889-42CB-9E77-D2DDFC27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E35-6A63-4FDB-B1AA-1DAF6B7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B2A-2BD6-4628-89C4-B4A0C9A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6AC-EF5B-484C-B496-8D69C30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9C59F-6C1A-466F-A8A4-80FC35384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