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16111"/>
        <c:axId val="90386458"/>
      </c:barChart>
      <c:catAx>
        <c:axId val="53216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86458"/>
        <c:crosses val="autoZero"/>
        <c:auto val="1"/>
        <c:lblAlgn val="ctr"/>
        <c:lblOffset val="100"/>
        <c:noMultiLvlLbl val="0"/>
      </c:catAx>
      <c:valAx>
        <c:axId val="903864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16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496-B964-40A4-9D25-8530CBBE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18F-5E80-43AF-85C6-5220CB2E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9E66-3A4E-4C75-B2DC-4811F056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31E-7334-42AB-8BE9-C6AC6324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0200-597C-491E-8DAD-3B865B8A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0ED-E680-4D7E-AC03-E9A889AA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EB4D-15F9-4216-8B9E-502C83A1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832-4294-4B91-BB28-1CFE9B35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9BE-735F-4F55-96CD-00F28DC9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3A9A-ECE2-4EB3-A57D-1BBA836A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0F32-89E6-4158-8DE1-FA64B128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FBB-D063-43B9-88F7-7DFEBC4D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609E4-6FCB-4665-A97D-41FD7A0CC7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