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20984"/>
        <c:axId val="88480155"/>
      </c:barChart>
      <c:catAx>
        <c:axId val="37220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80155"/>
        <c:crosses val="autoZero"/>
        <c:auto val="1"/>
        <c:lblAlgn val="ctr"/>
        <c:lblOffset val="100"/>
        <c:noMultiLvlLbl val="0"/>
      </c:catAx>
      <c:valAx>
        <c:axId val="88480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20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987-7CC5-4E37-BC7D-FE701B0C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551-7DFC-4106-BDE1-F1A2AE11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1A6-3A5E-4AD8-9F37-79C39221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6A2-93D3-490E-A6A6-76AF2F05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B40-DFA1-4FEF-96CD-7D1A0ADB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197-01D3-4109-975F-FB943722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B8E-D959-4D2B-9F5C-15CBC45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4A2-A99C-4D68-AB5A-3F5FA491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215-C50F-44D8-9DEC-468B79F2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040-CE8C-4926-BD21-D0AC3DFF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737-C63D-4840-B235-D39E07F6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D0D-28C5-46C6-8F00-A431565F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513B-8684-462F-A4E3-13E56F2965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