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92982"/>
        <c:axId val="18447342"/>
      </c:barChart>
      <c:catAx>
        <c:axId val="296929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47342"/>
        <c:crosses val="autoZero"/>
        <c:auto val="1"/>
        <c:lblAlgn val="ctr"/>
        <c:lblOffset val="100"/>
        <c:noMultiLvlLbl val="0"/>
      </c:catAx>
      <c:valAx>
        <c:axId val="18447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929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6E6-6DB9-4C2C-BCBF-DBD447CE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F20F-610C-4A57-A5B4-CCB2DF46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DD0A-CD29-4DC0-BB6C-5C3A6647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3C7E-035D-4AC7-9894-BBD3F176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D009-F4E0-4FDA-9E77-E8F83D1E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687-B6B6-4C6F-972B-F4102B7B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644-EAF9-47ED-A3AE-C937AA4D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3D29-8BFB-436A-B85B-54640F1C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E4E-4EFF-48AD-8E20-A8E6C655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515-27C5-405B-B892-655E18F7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8B8-9048-4FF9-A85F-2A0E9CF2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09ED-2D21-4D06-9555-D7074DD1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64037-E34E-408A-9BB0-051FE0E3E9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