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01302"/>
        <c:axId val="10806296"/>
      </c:barChart>
      <c:catAx>
        <c:axId val="44601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06296"/>
        <c:crosses val="autoZero"/>
        <c:auto val="1"/>
        <c:lblAlgn val="ctr"/>
        <c:lblOffset val="100"/>
        <c:noMultiLvlLbl val="0"/>
      </c:catAx>
      <c:valAx>
        <c:axId val="10806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01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015-A1CB-4DC3-A1CF-F12D8247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23D-C31E-458D-A066-83C7BA45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E23-E08F-4779-9C56-59493D9E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6C2-29E7-4A3B-82A5-DBCB7104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DFB-FDCA-4047-A5DB-F7128BFD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CDA-D64B-4128-ABB4-A1EF39E4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71B9-8A71-4C8D-85AB-85CF208A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DEE-FFD8-44F4-80F6-6B2D7703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886-3404-417F-9FA6-7CC50561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9D9-ACC0-48B5-BA33-60F1E98D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439-6D1B-4196-B4C5-C7EC02B5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7F2-6612-4B10-8181-E0AE8A27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5B12A-61A0-4C09-A74B-D15A841AF9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