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95061"/>
        <c:axId val="73542277"/>
      </c:barChart>
      <c:catAx>
        <c:axId val="67495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42277"/>
        <c:crosses val="autoZero"/>
        <c:auto val="1"/>
        <c:lblAlgn val="ctr"/>
        <c:lblOffset val="100"/>
        <c:noMultiLvlLbl val="0"/>
      </c:catAx>
      <c:valAx>
        <c:axId val="73542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95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BEC-503E-45C1-8F97-E7A6CC9F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0CF-0802-44BD-AE2C-EB49ED8E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782-941A-471E-9041-DA31273F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EDA-197F-4EF8-B25C-F7316BE2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F20-B6AD-4D66-A88D-2DDEC1DC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47B-1E65-43A5-9437-2FBC7D31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A89-695D-41C5-9658-665D80B8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3B0-A81A-4F71-8498-87E87CDB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AA2-94B5-4BF1-AF2C-7734408F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9E6-1471-4EC4-978C-12AC916E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E10-36C5-482F-B256-DACD8A54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D4B-D940-4DE9-B68F-4F3745D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2D981-A368-4E27-A290-48FAB60C18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