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03520"/>
        <c:axId val="78802629"/>
      </c:barChart>
      <c:catAx>
        <c:axId val="74903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02629"/>
        <c:crosses val="autoZero"/>
        <c:auto val="1"/>
        <c:lblAlgn val="ctr"/>
        <c:lblOffset val="100"/>
        <c:noMultiLvlLbl val="0"/>
      </c:catAx>
      <c:valAx>
        <c:axId val="788026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03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0067-88B6-4AA3-9346-4C59F4A7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E76-B233-418E-88B6-B9BCBBC5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ED7-1EF9-4649-8118-5CC3067A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978-556E-43D3-8470-BDDBD702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906-0ABD-48B7-9E6C-445EE836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6AB-B496-4988-BAC6-2D847DF2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FD5-6F81-4937-900D-808BC23C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4A0-72B2-492C-B07D-AD43CCC5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3203-F67F-499D-93D3-BED8B987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E78-F9E4-4D83-AF1D-C2D3618C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A9A-9FEA-4CB1-ABE4-E2F2D230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953-2D98-42DB-B208-28C1E1E9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4D94F-B896-4CC1-918A-6D33094100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