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48388"/>
        <c:axId val="49762432"/>
      </c:barChart>
      <c:catAx>
        <c:axId val="73248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62432"/>
        <c:crosses val="autoZero"/>
        <c:auto val="1"/>
        <c:lblAlgn val="ctr"/>
        <c:lblOffset val="100"/>
        <c:noMultiLvlLbl val="0"/>
      </c:catAx>
      <c:valAx>
        <c:axId val="49762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48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C44-5529-4A11-891D-1FBA3B8E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32E-B8B5-430A-896C-2E527AAC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C0E-7FC7-458D-9233-7D79DD21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3AE-DCA7-4537-BD95-C3471DF3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4E5-5FAD-47DE-9F8F-2CB8CF21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4EB-E6A7-494E-B00E-26996491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3FF-1716-4DC3-A6D0-8D853359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EE1-B3F8-4E83-8AF8-D3F2A944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5D0-457F-49BA-AA27-3D2EDEA8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E90-935D-49FE-8555-B3C8678E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D2D-DABD-4A7D-8985-E0BFC5E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144-E69E-4876-B2E8-8785B92F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FB940-CDBB-43DC-A3EF-225C32A37D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