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5337"/>
        <c:axId val="35919536"/>
      </c:barChart>
      <c:catAx>
        <c:axId val="72953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19536"/>
        <c:crosses val="autoZero"/>
        <c:auto val="1"/>
        <c:lblAlgn val="ctr"/>
        <c:lblOffset val="100"/>
        <c:noMultiLvlLbl val="0"/>
      </c:catAx>
      <c:valAx>
        <c:axId val="359195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53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6F2F-073E-417F-9ABD-FA1AB8F1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2E62-2FA3-4997-BCAC-A6ABE859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0BB1-B42B-4BF2-93D4-45FAFDB07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D202-E0AD-4DD4-822D-F4BC7925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0469-64BE-4BD5-8C94-8E4E8B6C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567C-1356-4062-A2C1-B8498782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209B-C003-4A45-BC56-D28BA044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FF5F-A80A-473E-979C-A7787F28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A5CA-7C59-4AF0-870D-5078B7EE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8E80-8199-4BB8-B928-50A07737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4576-DB4F-4DC8-8856-2CB38DBC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A5CB-D575-436C-B2AC-AD5F309F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06C2E-E08F-460E-B08D-80DCC43F1E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