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359426"/>
        <c:axId val="49271789"/>
      </c:barChart>
      <c:catAx>
        <c:axId val="835942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271789"/>
        <c:crosses val="autoZero"/>
        <c:auto val="1"/>
        <c:lblAlgn val="ctr"/>
        <c:lblOffset val="100"/>
        <c:noMultiLvlLbl val="0"/>
      </c:catAx>
      <c:valAx>
        <c:axId val="492717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5942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9ADC-963E-4109-93D2-76F81B0B1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A619-78B6-4547-9BF0-6C38076EB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60D2-FF14-4592-A81D-53D719FC5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1392-70F6-4D7E-9781-12B9EA97F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8D166-38B2-4F2A-9ADF-46BBC5180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447D-6331-43BA-8A75-FF427CE5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0DD4-D98A-484A-B091-B4EFA6D31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F6FDD-2396-484B-BB67-C8E10F7A7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96779-8760-4DCA-8D2C-A344D12A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8ED6-BB3E-4CA6-9226-23E1DF3EF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DB72-A6C6-4E9D-9B98-8B6D1C6B0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8DE0-2F83-4993-A7B6-9E6A45D6E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32290-F2BA-4E6B-8ED4-5B4CD09B134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