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91442"/>
        <c:axId val="2606812"/>
      </c:barChart>
      <c:catAx>
        <c:axId val="40791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6812"/>
        <c:crosses val="autoZero"/>
        <c:auto val="1"/>
        <c:lblAlgn val="ctr"/>
        <c:lblOffset val="100"/>
        <c:noMultiLvlLbl val="0"/>
      </c:catAx>
      <c:valAx>
        <c:axId val="2606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91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11A-1046-46C8-995F-E95ECC33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032-F87D-4B7C-96ED-8F9814ED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0FF-4F96-4DD2-8A4E-95066D25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59E-B788-4F3D-96A0-605F703B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ADE-66DB-4D9F-8AAB-E9EB1F14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FF2-FE0D-45F4-8CFA-9D4B80AB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12C-AA2A-4BD6-9C22-BF2E2F62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E60-FE5E-4528-A0C0-DE362A1C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4AF-C027-4198-94C4-450F305C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920-064D-45BD-8727-9608CB1D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870-62B7-44F2-B145-924CF729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14D-1D56-4562-8338-DE148CFF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5DA0B-B76A-4BF3-BAE8-71FE0FE6A4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