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71350"/>
        <c:axId val="17110984"/>
      </c:barChart>
      <c:catAx>
        <c:axId val="89171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10984"/>
        <c:crosses val="autoZero"/>
        <c:auto val="1"/>
        <c:lblAlgn val="ctr"/>
        <c:lblOffset val="100"/>
        <c:noMultiLvlLbl val="0"/>
      </c:catAx>
      <c:valAx>
        <c:axId val="17110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71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794-AF1D-40F6-93F9-1B30C9FF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85C-4C6E-4374-8F23-2804A736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9E9-592D-478E-A351-B6872F6C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48F-619A-48F9-8B2D-F08B7A8B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18A-EC0A-4A19-BD5B-BC14E81E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D53-36E4-425E-A552-0EC9510F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AB6-3410-4719-A097-69E72046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61B-20BC-4C89-822C-075245B8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8EC-6A3E-492D-A6F8-6D393409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5C6-7B61-4D7D-9071-CC33278D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C76-7C16-4611-8C04-6785706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51E-CBD0-47D2-B0E6-1C927E1C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C23FB-7271-4735-9757-BDE51D24E4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