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94585"/>
        <c:axId val="94040472"/>
      </c:barChart>
      <c:catAx>
        <c:axId val="30694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40472"/>
        <c:crosses val="autoZero"/>
        <c:auto val="1"/>
        <c:lblAlgn val="ctr"/>
        <c:lblOffset val="100"/>
        <c:noMultiLvlLbl val="0"/>
      </c:catAx>
      <c:valAx>
        <c:axId val="94040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94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895-271A-48E2-B434-B9124E04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C91-A417-42E9-9F0B-497B92E4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536-187D-4AF0-BEAC-13B12D34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4E8-6D29-488E-9891-D6ED60DB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DC7-25C9-468A-B722-7F02AB02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0D1-0E38-41AA-BE83-1776DA76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FF3-907A-4A5D-B36A-5CA29764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BAC-3B19-423E-A0E1-7359203A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C17-576A-4F77-9029-B5E5D2F3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075-7A3E-4A21-A108-D2D269DB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EA8-D8ED-4EBC-A893-E069B7F0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DC3-FDA8-46A2-95F0-A7ED1BD6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21BAA-10D5-4A8B-A5A2-E99A36BBE2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