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40942"/>
        <c:axId val="27087149"/>
      </c:barChart>
      <c:catAx>
        <c:axId val="27740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87149"/>
        <c:crosses val="autoZero"/>
        <c:auto val="1"/>
        <c:lblAlgn val="ctr"/>
        <c:lblOffset val="100"/>
        <c:noMultiLvlLbl val="0"/>
      </c:catAx>
      <c:valAx>
        <c:axId val="27087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40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534-98D0-4C0B-B914-8A1D85C0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8C0-0E8C-4BAC-B62E-ADE739AB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099-8573-48E4-A502-14FB0B44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250-A2C3-4D22-8A03-9DA82033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35F-0851-4A50-A439-03FF38C6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B3F-2CA0-427A-A69B-B7165EBF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2B48-0C63-4A2C-A744-8740AB2F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8F5F-AB32-4450-9ADB-7E8D839C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8E5-DFE3-4C2B-9B09-41C1C22B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712-8791-4EF0-A5F0-1415F229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51EB-A4F0-47D1-ABA5-BA13F568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0C4-AA0D-439D-86EB-DB31BAC5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26D5F-C615-4CE8-BF4A-3F06B8D4EC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