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26879"/>
        <c:axId val="73493415"/>
      </c:barChart>
      <c:catAx>
        <c:axId val="836268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93415"/>
        <c:crosses val="autoZero"/>
        <c:auto val="1"/>
        <c:lblAlgn val="ctr"/>
        <c:lblOffset val="100"/>
        <c:noMultiLvlLbl val="0"/>
      </c:catAx>
      <c:valAx>
        <c:axId val="73493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268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7F3-25A4-4148-BDFC-F7BDB2DC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AA73-09AE-45B8-8448-A19A8158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941-4C8C-4C0A-BD9B-416C7166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FBD-A33D-4203-B585-0D9714DF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471F-3F90-4E20-ADB9-99DC0534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B47-4481-4B85-B64D-33550938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501-8EB7-476F-A583-ACFF13C9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90CB-D81B-41C4-8597-188B12B5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1DAD-AB6F-42BF-B86E-5A2AC470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9E44-50A2-4963-AECC-18AF85B7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F4E-4CE5-4204-A366-EC76E9A2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247-45D5-4C57-817C-D744C556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ADF4A-F613-4123-AE69-23AEF717B4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