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12422"/>
        <c:axId val="61212614"/>
      </c:barChart>
      <c:catAx>
        <c:axId val="29012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12614"/>
        <c:crosses val="autoZero"/>
        <c:auto val="1"/>
        <c:lblAlgn val="ctr"/>
        <c:lblOffset val="100"/>
        <c:noMultiLvlLbl val="0"/>
      </c:catAx>
      <c:valAx>
        <c:axId val="612126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12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70F-53F9-4E22-96D9-41834AC7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B2E2-40D3-4959-BB14-D3171978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9C3-16AD-46DE-B951-3D271A9B1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58D9-74DB-4A2B-9308-89F4B60EB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E83-2D4B-43A7-8F39-F8F9EFFC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4AF6-2D6F-46BE-BA7E-1D553861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E58-EDA9-49A8-8E94-B1CE4AB5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3FC-390C-4665-9221-554C3606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87C-37D0-4067-8C68-1BCEAA8D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AEF-92AC-49B0-AF3A-99A9F287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D2B-CC4B-4540-8C1A-348AA463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72A-7A8D-4504-B9F3-93A12B78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6D506-A583-483D-891B-F938418709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