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8884"/>
        <c:axId val="11261099"/>
      </c:barChart>
      <c:catAx>
        <c:axId val="66438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1099"/>
        <c:crosses val="autoZero"/>
        <c:auto val="1"/>
        <c:lblAlgn val="ctr"/>
        <c:lblOffset val="100"/>
        <c:noMultiLvlLbl val="0"/>
      </c:catAx>
      <c:valAx>
        <c:axId val="1126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8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F46-D12E-4CD7-A895-A89CB14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AF4-29F0-4474-A4FA-60B30CED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4F3-09C4-4D5E-BD57-46126669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E52-C810-46EB-86FE-D71E81E9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EA3-AEFB-483F-85EA-D5A5246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4E0-FE5D-480C-AD31-43EDDC39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39E-0DC2-4720-AC75-74D8A631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043-EB9D-4DB3-AF3F-FCB1D105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AEF-5D61-48BF-B6F1-5BCEA2CF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746-70A3-443A-94E5-AFC7D37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055-12EC-4D87-9523-E7F26A9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9CF-692D-4538-843D-B3CE7A0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B5109-D46D-45DB-8025-7523CF0424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