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04643"/>
        <c:axId val="42877673"/>
      </c:barChart>
      <c:catAx>
        <c:axId val="61704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77673"/>
        <c:crosses val="autoZero"/>
        <c:auto val="1"/>
        <c:lblAlgn val="ctr"/>
        <c:lblOffset val="100"/>
        <c:noMultiLvlLbl val="0"/>
      </c:catAx>
      <c:valAx>
        <c:axId val="42877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04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150-0860-4300-9CAE-44973708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135-0A8C-478B-9C32-A5453DDE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155-A4C0-4E96-B4C3-7248E925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A1A-8764-4E3B-9233-59AEA41C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E89-7E14-4A2E-984B-346609EC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930-7A03-454D-8D51-D73F25D4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604-2B41-45B9-B519-8E13BEC7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84F-C608-4B9C-B75D-D47B7930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4EE-5B89-4661-82FD-DCAFC908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D86-0C5C-4211-B9F9-8B40FD37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BC9-3B97-4491-B092-82B71B5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EF3-0619-488E-B5B0-81477DCC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2242B-F222-4A02-B191-051E1EEA3A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