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12078"/>
        <c:axId val="19804859"/>
      </c:barChart>
      <c:catAx>
        <c:axId val="28412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4859"/>
        <c:crosses val="autoZero"/>
        <c:auto val="1"/>
        <c:lblAlgn val="ctr"/>
        <c:lblOffset val="100"/>
        <c:noMultiLvlLbl val="0"/>
      </c:catAx>
      <c:valAx>
        <c:axId val="19804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12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02A-69A5-493F-A919-BDEB319B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EEC-6C8B-4DB8-B1D8-F49D5027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20E-F16E-4F87-8098-2777D150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7D3-121F-4B80-846D-BC00F1D1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0D3-C177-4D68-A050-82673AA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7B2-629E-4566-B42F-AFD2B0CF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79A-4E3B-46A4-9514-B6822215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E06-0C88-411C-93C7-BD1F978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391-781C-4C67-B587-F33E00A7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846-2E96-4C4B-BC3D-7814161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422-2603-4DA1-95DF-EDE3D08C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6EB-EF55-45FC-8ECC-44EE7AC5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86C81-7CAC-43FA-8E59-3FB662A8F3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