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30598"/>
        <c:axId val="21830626"/>
      </c:barChart>
      <c:catAx>
        <c:axId val="31430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30626"/>
        <c:crosses val="autoZero"/>
        <c:auto val="1"/>
        <c:lblAlgn val="ctr"/>
        <c:lblOffset val="100"/>
        <c:noMultiLvlLbl val="0"/>
      </c:catAx>
      <c:valAx>
        <c:axId val="21830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0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496-160F-48CB-916A-C34093A6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40C-99B9-4063-BCBA-0BCB6C67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3DF-4C78-430D-B73F-D0E9E280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ECC-E285-4C9C-A50F-4519E311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7B5-0315-4308-939A-ABB56DC6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BAD-6849-41B5-9E41-38B89305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A81-10A3-48AF-BC89-D51429D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BF9-A409-497A-97E0-02DDC868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203-F5BC-44BA-AE69-92C2C93B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C34-0D1C-46A7-98E1-8815B39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AF1-6C5D-4A6C-8910-D4B6548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B29-CC9C-488C-B56C-9899293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8E6D-0BEE-4003-8526-7D390547E9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