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1471"/>
        <c:axId val="31918798"/>
      </c:barChart>
      <c:catAx>
        <c:axId val="88351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18798"/>
        <c:crosses val="autoZero"/>
        <c:auto val="1"/>
        <c:lblAlgn val="ctr"/>
        <c:lblOffset val="100"/>
        <c:noMultiLvlLbl val="0"/>
      </c:catAx>
      <c:valAx>
        <c:axId val="31918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1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05F-F1DB-4E94-BAB5-D70F32DD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A12-6CD1-41D0-AAFE-75D79F4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C84-75EF-4129-A154-929F2A07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588-5407-428B-84EE-C0FA4426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D46-913F-4108-A5B6-A825C82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D76-6CE7-49C2-9B97-0E1D2E26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449-96AE-4CA6-A6C0-B6F0F44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7C3-186D-446B-AC09-6731639E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0E7-B60C-45E5-A2AB-C8C56D43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BC1-57D4-4AC8-B216-36DE8EBE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2DE-A92F-4DA5-840E-6D90B7A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61A-C1D5-4355-AD25-2D58810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61251-BABA-4715-A6BD-98C03F5F6D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