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64980"/>
        <c:axId val="90732262"/>
      </c:barChart>
      <c:catAx>
        <c:axId val="75764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2262"/>
        <c:crosses val="autoZero"/>
        <c:auto val="1"/>
        <c:lblAlgn val="ctr"/>
        <c:lblOffset val="100"/>
        <c:noMultiLvlLbl val="0"/>
      </c:catAx>
      <c:valAx>
        <c:axId val="90732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64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3EB-543E-40F3-82C4-CD6701F5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24D-7B62-484A-B1A9-739561F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D85-68CE-4E3D-BD76-F50BF892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EF9-84C4-428F-9190-1E52AC10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96A-3F05-4F02-9602-8BA93DC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7E6-1B9F-4179-87C3-139518A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E35-F3C6-45AB-90CB-1DC565B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A7C-0CEC-40AE-8B45-523F082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BD9-9FFF-466D-BD67-93D5D0F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286-6C02-4F9D-9761-B3AF80B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94B-9A68-486D-B4F1-F5E1006E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EDB-262E-4CFF-B021-225FFF68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ED3EC-1E95-4818-A1F7-08FF8D52B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