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26966"/>
        <c:axId val="77268260"/>
      </c:barChart>
      <c:catAx>
        <c:axId val="52726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68260"/>
        <c:crosses val="autoZero"/>
        <c:auto val="1"/>
        <c:lblAlgn val="ctr"/>
        <c:lblOffset val="100"/>
        <c:noMultiLvlLbl val="0"/>
      </c:catAx>
      <c:valAx>
        <c:axId val="77268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26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DF9-D512-4C43-A4D7-BBF9C33D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A78A-E9BA-4AF5-875F-441F2418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297-8390-41C0-80EE-4D40F0FD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1DAA-1938-4F2F-9D74-C6BC5A5E0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516-A4E2-4E11-A55A-CA7F96DD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D32-E7FE-4FB8-9E4C-AAB0FD53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8C0-0799-4CC8-9FD2-534997D8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83E-079A-4438-ABFC-599F97FF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2A8-0324-4515-9019-86FFB201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9527-6836-4E08-B9CE-0A9D5FC1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3B3-3763-4A1E-83F4-E07623D2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BDD-2205-4E86-978E-15AFF518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57078-2CB3-4F26-866D-CA092DDAA0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